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1CF0-90C3-456A-823E-7CC4BE813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CA7C-D7C2-4FEE-9A78-2A3A904BA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2766-1955-4C29-AC43-D6E2D7DEF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89BC-4E8D-4B2D-A0ED-0AE30775C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9CEF6-7E24-4349-99E9-8A2889BCC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B61DA-15F1-490D-922D-997BFB669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A67C6-43E5-4E6D-81AF-6E8704E41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7907F-12F1-45D7-8968-8663A2D64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9404C-3AA1-44F8-A32D-B609632E9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73553-567B-4663-B958-9C2818381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4921E-2977-4BEC-A7F2-1F4EA0F4D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5C9D-4631-45C0-9934-68D083FE2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7F34B-9CC5-4CC0-92DB-BFA9F1590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3789E-95E0-4D3D-AA1A-7E03F3A6E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CCCFF-372E-4F78-93F2-0CF059571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7B9A4-3480-4A99-8B0A-9E28DE6A8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137AF-D253-49D3-AE42-11CD6B5AF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31D69-DD3E-423A-BAA4-5904A782B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74AC4-44D2-4C9D-9B49-1BCCF9309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7E92F-7A24-48F2-B5B6-182B87B5A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4D671-D426-4C34-B573-39A618C4A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120AD-754D-4F84-B5CA-CE3F0E60B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3A84-EFAE-4010-9E9F-DA217C7F9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86652-AA9D-42E9-8A15-37D400C28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54507-6422-4996-9915-609DC17D4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22609-6B03-4AA5-8A63-6C0E09233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C2761-4566-40B4-92A4-529F70A9B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C19F8-88A3-4194-BB61-15FDD7E92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3C99F-E595-4336-A3F1-AF61C1D43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FF6EF-0153-46C0-870D-D4B7686B8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4CC6F-17A9-4981-80F2-62C6B5954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D4C82-21F2-4710-94BF-0936C52D9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BF401-5E76-4766-A636-6ECB3BE99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749E-36F0-48C0-B3F4-F9CE00742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B6EA8-937A-4ACD-A148-E3E470026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189D3-8E01-4C80-8F09-70AA4316B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29E78C-19DD-42A8-B841-6F44BF27D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878B4-F635-427D-95B2-A4BB40ABB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0C183-8F07-41B5-BF5B-5B88AE76E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0305B-5C72-4BBA-8A1F-42D84FE07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1917D-0642-4B00-B0E8-078E7E786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75DAB5-63E2-47FA-A755-7B100C2E7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8C40B-3690-4FB7-9CEB-AF95A9501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09255D-3D70-412B-A301-49E99021A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F40E-370C-41FC-9F5B-E40DE8B6B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5DB632-D9E9-4C30-BA91-F61D77244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6DFBAF-553C-416C-97CE-3820DB863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0230D9-CDB0-4F36-900B-2E5D1DF04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0EBA57-5DBD-461E-A0F8-9147D3316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B5D64B-A615-4881-B915-806503F6F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ACC3A7-3E55-4CF9-89DE-0D32A637F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1C00A2-E59C-44A6-8DC4-1C49FFA15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69095E-255D-4AF4-8DB2-007FFBA4F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F82C4E-1D23-45B2-96C5-422AE0738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1DE572-62F6-49F6-9DAC-3BF900BFB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1D1A-2627-4B83-90AB-E8BB1AEE1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6304AA-C78A-4BDF-BA01-493EC29DB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1951-B96E-465A-9E73-C0ED52204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35E0-6BA7-4928-9141-99D115A4A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2F67-97A4-445E-8F61-DDEFD0656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B303D-C67A-420B-A30A-45F3E26BFB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5754C-9013-4A28-A0C7-2B59EED48F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31E46-B484-431B-95E7-758259312AE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125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3588E-AAF7-40B0-B8D9-9609683C83D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172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EAEA1-028E-45C5-8E09-AF1C75DD6D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040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1" i="1" lang="en-US" sz="4800" spc="-1" strike="noStrike">
                <a:solidFill>
                  <a:srgbClr val="420000"/>
                </a:solidFill>
                <a:latin typeface="Times New Roman"/>
              </a:rPr>
              <a:t>Будем помнить!?</a:t>
            </a:r>
            <a:br>
              <a:rPr sz="4800"/>
            </a:br>
            <a:br>
              <a:rPr sz="4800"/>
            </a:br>
            <a:r>
              <a:rPr b="1" i="1" lang="en-US" sz="3600" spc="-1" strike="noStrike">
                <a:solidFill>
                  <a:srgbClr val="420000"/>
                </a:solidFill>
                <a:latin typeface="Times New Roman"/>
              </a:rPr>
              <a:t>классный час для учащихся </a:t>
            </a:r>
            <a:br>
              <a:rPr sz="3600"/>
            </a:br>
            <a:r>
              <a:rPr b="1" i="1" lang="en-US" sz="3600" spc="-1" strike="noStrike">
                <a:solidFill>
                  <a:srgbClr val="420000"/>
                </a:solidFill>
                <a:latin typeface="Times New Roman"/>
              </a:rPr>
              <a:t>10-11 классов</a:t>
            </a:r>
            <a:br>
              <a:rPr sz="3600"/>
            </a:br>
            <a:br>
              <a:rPr sz="3600"/>
            </a:br>
            <a:br>
              <a:rPr sz="4800"/>
            </a:b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468360" y="402840"/>
            <a:ext cx="81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27 январ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1945 г.</a:t>
            </a: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 - </a:t>
            </a:r>
            <a:r>
              <a:rPr b="1" lang="ru-RU" sz="2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день освобождения узник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нацистского лагеря уничтожения Аушвиц (Освенцим)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войсками 1-го Украинского фрон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5136" descr=""/>
          <p:cNvPicPr/>
          <p:nvPr/>
        </p:nvPicPr>
        <p:blipFill>
          <a:blip r:embed="rId1"/>
          <a:stretch/>
        </p:blipFill>
        <p:spPr>
          <a:xfrm>
            <a:off x="900000" y="1773360"/>
            <a:ext cx="734400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«Память о Холокосте необходима, чтобы наши дети никогда не были жертвами, палачами или равнодушными наблюдателями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И.Бауэр, исследователь Холокоста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20000"/>
                </a:solidFill>
                <a:latin typeface="Times New Roman"/>
              </a:rPr>
              <a:t>Будем помнить!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Память о Холокосте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путь к толерант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028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eec94"/>
                </a:solidFill>
                <a:uFillTx/>
                <a:latin typeface="Times New Roman"/>
              </a:rPr>
              <a:t>Это надо знать: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1440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Холокост 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(от греческого слова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Holocaustos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 – всесожжение, жертвоприношение с помощью огня)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- преследование и уничтожение  евреев нацистами и их пособниками после прихода к власти Гитлера и до окончания Второй мировой войны (1933 – 1945 гг.)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Антисемитизм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– одна из форм национальной нетерпимости, выражающаяся во враждебном отношении к еврея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Гетто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– в годы Холокоста часть города, окруженная колючей проволокой или стенами, где обязаны были проживать евреи из прилегающих районов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Геноцид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истребление отдельных групп населения по расовым, национальным, этническим и религиозным признакам, а также умышленное создание жизненных условий, рассчитанных на их уничтожение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864072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00"/>
                </a:solidFill>
                <a:latin typeface="Times New Roman"/>
              </a:rPr>
              <a:t>Самым страшным проявлением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Холокоста стали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лагеря смерти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созданные фашистами для физического истребления  людей, объявленных «недочеловеками», к которым нацисты относил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лавян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евреев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цыган и многих других.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мецкие концентрационные лагеря и лагеря смерти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39 – 1945 гг. в границах территории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современной Польш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1332000" y="1628640"/>
            <a:ext cx="6985080" cy="522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онцлагерь Аушви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енрих Гиммл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48320" y="1412640"/>
            <a:ext cx="419400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здан 27 апреля 1940 г. по приказу Гиммлера в предместье польского города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свенц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о был самый большой из созданных немцами лагерей во всей оккупированной ими Европ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4319640" cy="32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4600" y="334440"/>
            <a:ext cx="81565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Ворота концлагеря Аушвиц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Arbeit macht frei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856908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1908000" y="260280"/>
            <a:ext cx="5364360" cy="515160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539640" y="5589720"/>
            <a:ext cx="80280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охранившиеся со времен войны печи крематори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лагере Майдан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ети в Освенцим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5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 1 миллиона 300 тысяч узников Освенцима дети подростки не старше 18 лет составили около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234 00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 них - 220 000 еврейских детей, 11 тысяч цыганских; несколько тысяч белорусских, украинских, русских, польски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ольшинство еврейских детей уничтожались сразу же после прибытия. 12 сентября 1944 г., например, 12 300 детей из Каунаса были направлены в газовые каме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начале октября  в Аушвице было 2 510 мальчиков и девочек. 10 января 45-го их оставалось 611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2411280" y="3860640"/>
            <a:ext cx="3996000" cy="2781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4T10:14:29Z</dcterms:created>
  <dc:creator>2</dc:creator>
  <dc:description/>
  <dc:language>en-US</dc:language>
  <cp:lastModifiedBy>1</cp:lastModifiedBy>
  <dcterms:modified xsi:type="dcterms:W3CDTF">2022-11-07T17:27:46Z</dcterms:modified>
  <cp:revision>20</cp:revision>
  <dc:subject/>
  <dc:title>Память о Холокосте – путь к толерантности </dc:title>
</cp:coreProperties>
</file>